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506-82BA-439D-9CCE-DC2D1A0A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44F-5D34-41EE-9B84-D91F663E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9BC-F97C-41F8-98BD-3CBBA5E6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7C4-2376-405C-B99B-5FC94DEA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135-E22F-4719-9D4E-86187EA1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A6B-E13F-408B-B5DA-0CC76FB7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54D-37C4-4826-A687-83C65C51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924-1F52-44FB-AB26-7E840B66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25E-7AB7-484A-B36F-3F9F4F3F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863-29EE-483F-B6AF-7F8453C5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88F-7D92-4184-B71C-F176274B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CFF-5535-4F64-8E15-290995B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5B26-51AA-4208-B964-89ACF5B389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Rise of Dictators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did totalitarian dictators gain power in Europe during the 1920s and 1930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Europe after WW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NFER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What do you think was going on in Europe after WWI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CAL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Which country had it the worst? Why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otalitaria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a single party and it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 leader have total control on all aspects of people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 liv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Dictator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leader who controls the nation by fo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scism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a political philosophy in which total power is given to a dictator and individual freedoms are deni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ictators of WWI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Josef Stalin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Soviet Union – commun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enito Mussolini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Italy – Fasc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olf Hitler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Germany – Nazi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ideki Tojo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Japan – military dictat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actors that led to the rise of dicta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litical instability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dictator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ok advantage of uncertainty in their coun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Germany’s high war debt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om reparations after WW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orldwide depression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 just the U.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assive unemployment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oughout Euro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scism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other totalitarian governments took o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igh inflation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s were so high people couldn’t afford to buy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olitical and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economic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ditions in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Europe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llowing WWI led to the rise of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scism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and to WWII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rise of fascism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reaten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peace in Europe and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si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scis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dictators includ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itler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Mussolini and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ojo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ctators led the countries that became known as th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xis Powers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6:06:00Z</dcterms:created>
  <dc:creator>LATHOMPS</dc:creator>
  <dc:description/>
  <dc:language>en-US</dc:language>
  <cp:lastModifiedBy>Vickie J. Dean</cp:lastModifiedBy>
  <dcterms:modified xsi:type="dcterms:W3CDTF">2015-03-16T19:14:47Z</dcterms:modified>
  <cp:revision>4</cp:revision>
  <dc:subject/>
  <dc:title>Rise of Dictators</dc:title>
</cp:coreProperties>
</file>